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jep3.wav" ContentType="audio/x-wav"/>
  <Override PartName="/ppt/media/Jeopardy.wav" ContentType="audio/x-wav"/>
  <Override PartName="/ppt/media/APPLAUSE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303e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9DD6-EBA8-4B74-A2C5-57CDFDA2E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A1F3-6F76-4A92-A89D-AF11D3D14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5BB4-EBD1-438C-B915-A9D47EDDE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0A6E-36A1-4EE8-A276-7839DAE72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AB90-6C6B-4171-8F38-25A0A5F42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A60A-7C4F-462A-810D-A53184DA6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415F-2501-4F6C-BB5F-5ACC948C9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6A7F-9C22-46F9-BE71-93B8300CF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6A2A-477C-4939-A7E8-CE66C9D1B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4805-B6CA-4663-B6BC-FE4BD9B65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6C2A-FAE1-479D-A350-0898DD581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BDE9-8B79-41E8-8ADB-823DDC54D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D5C5-FECF-4614-B379-CCBDA82D7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5EDE-353D-4C68-8B47-0EC2F6CED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D001-14D8-4599-B1BE-DE044BFA2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5DDB-FC4D-478F-92AB-C2BBEB2B9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A771-67A8-4975-8E3F-A8EB21CA9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10C5-3DF7-4669-9C4E-4E6480535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3649-632D-4630-A048-2AF06B63A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3F85-4068-4D16-8D47-5B730779D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B184-E926-41E1-9943-AC9243C09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81CD-49A7-43DD-820D-54F90A167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B2A7-6940-4FE9-A5FE-0D4C94A79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6062-C03F-45D8-B80C-8A850E4AD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1342-B2F8-442C-9E0F-FF33F3023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37A6-5B5D-4A02-816D-61756DD6E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7272-C7D1-4335-AD73-52BB9E179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E335-AA35-4326-9FC9-7CE1904EB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BEAA-0F6A-4BFA-91E3-AD3FDED6F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41A1-7BF9-4886-9349-2457CCB68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363C-17C5-4444-9995-B72825401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7B2A-E1F5-49D1-9690-246573236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0836-70C7-4B5A-80F8-A5E01152F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2B10-9C81-44D9-BDFE-17AC70617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7A4C-C5C4-4DCF-BC38-1AFE08563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60ED-282F-4A9A-A811-BFEC0DF83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5090-3A23-47ED-8943-15A5CF09B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0A88-54BE-4082-90D5-D92308B7E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2A95-9FB3-414B-9F72-AB4BD2BB9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96D8-1BF3-4163-95DC-A8CFDDBE5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E79A-9B7E-4A58-ABC3-24D61DB1F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9112-B85D-49CD-9E17-138163AF0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73CD-9006-49E3-A855-418A22EA3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7D81-A6BF-44DE-BC77-1194C259A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C397-8158-4FE8-8DE0-20205DDA0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8626-83BF-423A-8CA3-E065EC619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7D56-EB34-4BD1-8EC2-7996F6756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DD7A-F43F-45A9-941D-07700F26E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0162-E976-4689-BD7A-BA95B4A14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1557-1579-4786-A19D-29D04181B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E40D-BBD8-4995-A164-C919497EC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FC18-AC5B-4106-8E47-40A5034E5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6BC3-96D8-4E91-9F21-1EDC60C55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C66B-8F7B-4311-949C-77DB29C36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32BA-D18E-4731-9733-52B41CC7A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FBD7-594D-41E1-BB7F-87CAAE64C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061E-71FE-4310-B488-269F70E8B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9F7A-6077-4A69-8FA5-1A18F508A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1A6F-8A5B-4F45-B88E-9967A72A4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846E-0745-4EF6-8B26-52A4C228F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5E8C-F76A-4C89-986D-A98021FC7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F2E7-4073-42F9-AAA0-467D49341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B30E-69F6-4675-A431-0270919DF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1ABF-62DA-456D-A41A-5FB29B24D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2296-9F6E-4B21-80E8-A6D4AF14C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120C-023F-46E3-ABC5-D96BD7049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A8AD-2CE7-49D3-815B-C2D882752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E6AD-1C0D-4A37-A8D8-1E8A04E8B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5233-C379-463F-9DA7-224172A4C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FF6E-6219-4C18-B7A8-98B06532A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2B8-6B95-46B3-985F-B2B357A1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6FDA-FF70-43D2-90D7-E28AF8B3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997-0571-4931-9B36-58AB9E7B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517F-6BB6-4633-B186-66E6D61B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DAE-6985-4B0C-8EB0-08721634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337F-8A6F-432C-8A19-4429F16A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E44-A942-474C-8A6A-CE6CDD50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CD6-CECA-47EA-ADE0-E4379838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A61B-014D-41B5-90D7-FE0DC6CF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8ECA-89A7-4883-AE5C-12BC464B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A620-DA47-4F44-A0D9-49D61AC0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7E0B-5056-43D0-BB5E-7EE8C855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303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837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B69C-A87C-4646-A816-A9C124311194}" type="slidenum">
              <a:rPr b="0" lang="en-US" sz="1200" spc="-1" strike="noStrike">
                <a:solidFill>
                  <a:srgbClr val="08376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" Target="slide15.xml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" Target="slide25.xml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slide" Target="slide36.xml"/><Relationship Id="rId11" Type="http://schemas.openxmlformats.org/officeDocument/2006/relationships/image" Target="../media/image3.png"/><Relationship Id="rId12" Type="http://schemas.openxmlformats.org/officeDocument/2006/relationships/image" Target="../media/image2.png"/><Relationship Id="rId13" Type="http://schemas.openxmlformats.org/officeDocument/2006/relationships/slide" Target="slide46.xml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slide" Target="slide56.xml"/><Relationship Id="rId17" Type="http://schemas.openxmlformats.org/officeDocument/2006/relationships/image" Target="../media/image3.png"/><Relationship Id="rId18" Type="http://schemas.openxmlformats.org/officeDocument/2006/relationships/image" Target="../media/image2.png"/><Relationship Id="rId19" Type="http://schemas.openxmlformats.org/officeDocument/2006/relationships/slide" Target="slide7.xml"/><Relationship Id="rId20" Type="http://schemas.openxmlformats.org/officeDocument/2006/relationships/image" Target="../media/image3.png"/><Relationship Id="rId21" Type="http://schemas.openxmlformats.org/officeDocument/2006/relationships/image" Target="../media/image2.png"/><Relationship Id="rId22" Type="http://schemas.openxmlformats.org/officeDocument/2006/relationships/slide" Target="slide17.xml"/><Relationship Id="rId23" Type="http://schemas.openxmlformats.org/officeDocument/2006/relationships/image" Target="../media/image3.png"/><Relationship Id="rId24" Type="http://schemas.openxmlformats.org/officeDocument/2006/relationships/image" Target="../media/image2.png"/><Relationship Id="rId25" Type="http://schemas.openxmlformats.org/officeDocument/2006/relationships/slide" Target="slide27.xml"/><Relationship Id="rId26" Type="http://schemas.openxmlformats.org/officeDocument/2006/relationships/image" Target="../media/image3.png"/><Relationship Id="rId27" Type="http://schemas.openxmlformats.org/officeDocument/2006/relationships/image" Target="../media/image2.png"/><Relationship Id="rId28" Type="http://schemas.openxmlformats.org/officeDocument/2006/relationships/slide" Target="slide38.xml"/><Relationship Id="rId29" Type="http://schemas.openxmlformats.org/officeDocument/2006/relationships/image" Target="../media/image3.png"/><Relationship Id="rId30" Type="http://schemas.openxmlformats.org/officeDocument/2006/relationships/image" Target="../media/image2.png"/><Relationship Id="rId31" Type="http://schemas.openxmlformats.org/officeDocument/2006/relationships/slide" Target="slide48.xml"/><Relationship Id="rId32" Type="http://schemas.openxmlformats.org/officeDocument/2006/relationships/image" Target="../media/image3.png"/><Relationship Id="rId33" Type="http://schemas.openxmlformats.org/officeDocument/2006/relationships/image" Target="../media/image2.png"/><Relationship Id="rId34" Type="http://schemas.openxmlformats.org/officeDocument/2006/relationships/slide" Target="slide58.xml"/><Relationship Id="rId35" Type="http://schemas.openxmlformats.org/officeDocument/2006/relationships/image" Target="../media/image3.png"/><Relationship Id="rId36" Type="http://schemas.openxmlformats.org/officeDocument/2006/relationships/image" Target="../media/image2.png"/><Relationship Id="rId37" Type="http://schemas.openxmlformats.org/officeDocument/2006/relationships/slide" Target="slide9.xml"/><Relationship Id="rId38" Type="http://schemas.openxmlformats.org/officeDocument/2006/relationships/image" Target="../media/image3.png"/><Relationship Id="rId39" Type="http://schemas.openxmlformats.org/officeDocument/2006/relationships/image" Target="../media/image2.png"/><Relationship Id="rId40" Type="http://schemas.openxmlformats.org/officeDocument/2006/relationships/slide" Target="slide19.xml"/><Relationship Id="rId41" Type="http://schemas.openxmlformats.org/officeDocument/2006/relationships/image" Target="../media/image3.png"/><Relationship Id="rId42" Type="http://schemas.openxmlformats.org/officeDocument/2006/relationships/image" Target="../media/image2.png"/><Relationship Id="rId43" Type="http://schemas.openxmlformats.org/officeDocument/2006/relationships/slide" Target="slide29.xml"/><Relationship Id="rId44" Type="http://schemas.openxmlformats.org/officeDocument/2006/relationships/image" Target="../media/image3.png"/><Relationship Id="rId45" Type="http://schemas.openxmlformats.org/officeDocument/2006/relationships/image" Target="../media/image2.png"/><Relationship Id="rId46" Type="http://schemas.openxmlformats.org/officeDocument/2006/relationships/slide" Target="slide40.xml"/><Relationship Id="rId47" Type="http://schemas.openxmlformats.org/officeDocument/2006/relationships/image" Target="../media/image3.png"/><Relationship Id="rId48" Type="http://schemas.openxmlformats.org/officeDocument/2006/relationships/image" Target="../media/image2.png"/><Relationship Id="rId49" Type="http://schemas.openxmlformats.org/officeDocument/2006/relationships/slide" Target="slide50.xml"/><Relationship Id="rId50" Type="http://schemas.openxmlformats.org/officeDocument/2006/relationships/image" Target="../media/image3.png"/><Relationship Id="rId51" Type="http://schemas.openxmlformats.org/officeDocument/2006/relationships/image" Target="../media/image2.png"/><Relationship Id="rId52" Type="http://schemas.openxmlformats.org/officeDocument/2006/relationships/slide" Target="slide60.xml"/><Relationship Id="rId53" Type="http://schemas.openxmlformats.org/officeDocument/2006/relationships/image" Target="../media/image3.png"/><Relationship Id="rId54" Type="http://schemas.openxmlformats.org/officeDocument/2006/relationships/image" Target="../media/image2.png"/><Relationship Id="rId55" Type="http://schemas.openxmlformats.org/officeDocument/2006/relationships/slide" Target="slide11.xml"/><Relationship Id="rId56" Type="http://schemas.openxmlformats.org/officeDocument/2006/relationships/image" Target="../media/image3.png"/><Relationship Id="rId57" Type="http://schemas.openxmlformats.org/officeDocument/2006/relationships/image" Target="../media/image2.png"/><Relationship Id="rId58" Type="http://schemas.openxmlformats.org/officeDocument/2006/relationships/slide" Target="slide21.xml"/><Relationship Id="rId59" Type="http://schemas.openxmlformats.org/officeDocument/2006/relationships/image" Target="../media/image3.png"/><Relationship Id="rId60" Type="http://schemas.openxmlformats.org/officeDocument/2006/relationships/image" Target="../media/image2.png"/><Relationship Id="rId61" Type="http://schemas.openxmlformats.org/officeDocument/2006/relationships/slide" Target="slide31.xml"/><Relationship Id="rId62" Type="http://schemas.openxmlformats.org/officeDocument/2006/relationships/image" Target="../media/image3.png"/><Relationship Id="rId63" Type="http://schemas.openxmlformats.org/officeDocument/2006/relationships/image" Target="../media/image2.png"/><Relationship Id="rId64" Type="http://schemas.openxmlformats.org/officeDocument/2006/relationships/slide" Target="slide42.xml"/><Relationship Id="rId65" Type="http://schemas.openxmlformats.org/officeDocument/2006/relationships/image" Target="../media/image3.png"/><Relationship Id="rId66" Type="http://schemas.openxmlformats.org/officeDocument/2006/relationships/image" Target="../media/image2.png"/><Relationship Id="rId67" Type="http://schemas.openxmlformats.org/officeDocument/2006/relationships/slide" Target="slide52.xml"/><Relationship Id="rId68" Type="http://schemas.openxmlformats.org/officeDocument/2006/relationships/image" Target="../media/image3.png"/><Relationship Id="rId69" Type="http://schemas.openxmlformats.org/officeDocument/2006/relationships/image" Target="../media/image2.png"/><Relationship Id="rId70" Type="http://schemas.openxmlformats.org/officeDocument/2006/relationships/slide" Target="slide62.xml"/><Relationship Id="rId71" Type="http://schemas.openxmlformats.org/officeDocument/2006/relationships/image" Target="../media/image3.png"/><Relationship Id="rId72" Type="http://schemas.openxmlformats.org/officeDocument/2006/relationships/image" Target="../media/image2.png"/><Relationship Id="rId73" Type="http://schemas.openxmlformats.org/officeDocument/2006/relationships/slide" Target="slide13.xml"/><Relationship Id="rId74" Type="http://schemas.openxmlformats.org/officeDocument/2006/relationships/image" Target="../media/image3.png"/><Relationship Id="rId75" Type="http://schemas.openxmlformats.org/officeDocument/2006/relationships/image" Target="../media/image2.png"/><Relationship Id="rId76" Type="http://schemas.openxmlformats.org/officeDocument/2006/relationships/slide" Target="slide23.xml"/><Relationship Id="rId77" Type="http://schemas.openxmlformats.org/officeDocument/2006/relationships/image" Target="../media/image3.png"/><Relationship Id="rId78" Type="http://schemas.openxmlformats.org/officeDocument/2006/relationships/image" Target="../media/image2.png"/><Relationship Id="rId79" Type="http://schemas.openxmlformats.org/officeDocument/2006/relationships/slide" Target="slide34.xml"/><Relationship Id="rId80" Type="http://schemas.openxmlformats.org/officeDocument/2006/relationships/image" Target="../media/image3.png"/><Relationship Id="rId81" Type="http://schemas.openxmlformats.org/officeDocument/2006/relationships/image" Target="../media/image2.png"/><Relationship Id="rId82" Type="http://schemas.openxmlformats.org/officeDocument/2006/relationships/slide" Target="slide44.xml"/><Relationship Id="rId83" Type="http://schemas.openxmlformats.org/officeDocument/2006/relationships/image" Target="../media/image3.png"/><Relationship Id="rId84" Type="http://schemas.openxmlformats.org/officeDocument/2006/relationships/image" Target="../media/image2.png"/><Relationship Id="rId85" Type="http://schemas.openxmlformats.org/officeDocument/2006/relationships/slide" Target="slide54.xml"/><Relationship Id="rId86" Type="http://schemas.openxmlformats.org/officeDocument/2006/relationships/image" Target="../media/image3.png"/><Relationship Id="rId87" Type="http://schemas.openxmlformats.org/officeDocument/2006/relationships/image" Target="../media/image2.png"/><Relationship Id="rId88" Type="http://schemas.openxmlformats.org/officeDocument/2006/relationships/slide" Target="slide64.xml"/><Relationship Id="rId89" Type="http://schemas.openxmlformats.org/officeDocument/2006/relationships/image" Target="../media/image3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4.png"/><Relationship Id="rId98" Type="http://schemas.openxmlformats.org/officeDocument/2006/relationships/oleObject" Target="../embeddings/oleObject1.bin"/><Relationship Id="rId99" Type="http://schemas.openxmlformats.org/officeDocument/2006/relationships/slide" Target=""/><Relationship Id="rId100" Type="http://schemas.openxmlformats.org/officeDocument/2006/relationships/image" Target="../media/image5.png"/><Relationship Id="rId101" Type="http://schemas.openxmlformats.org/officeDocument/2006/relationships/image" Target="../media/image6.png"/><Relationship Id="rId102" Type="http://schemas.openxmlformats.org/officeDocument/2006/relationships/slideLayout" Target="../slideLayouts/slideLayout1.xml"/><Relationship Id="rId10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millili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tric unit used to measure distance from Birmingham to Tuscaloo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kilome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ed to measure large volu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cubic meter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determine temper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thermome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accurately measure the volume of a liq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graduated cyclind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produce a flame using g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000" spc="-1" strike="noStrike">
                <a:solidFill>
                  <a:srgbClr val="21b2c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produce a flame using g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measure and dispense small amounts of liqu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dropp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view nonliving specim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n electron microscop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am conducting a lab that involves chemicals.  I need 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27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safety goggles/glass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had an accident in the lab.  The next step is to  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inform the teach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am soaked in a chemical.  I must 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72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YOUR NAM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HURRY to safety show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elp Me - 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smell a chemical I should use 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wafting metho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oes PASS stand f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295280" y="1981080"/>
            <a:ext cx="6324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 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ll the p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 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im the nozz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queeze the hand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weep at base from sid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s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step in scientific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observ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is a hypothesis usefu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when it can be test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ea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hat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hat Can 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Use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Help Me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nvesti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Exper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k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Picture 220" descr="TITLE"/>
          <p:cNvPicPr/>
          <p:nvPr/>
        </p:nvPicPr>
        <p:blipFill>
          <a:blip r:embed="rId101"/>
          <a:stretch/>
        </p:blipFill>
        <p:spPr>
          <a:xfrm>
            <a:off x="2666880" y="228600"/>
            <a:ext cx="3678480" cy="49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thod used by scientist to gather information and answer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scientific meth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hypothesis is based on 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or knowledge or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cepted as true.  Data proven many ti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theo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sting the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n experi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ard for compar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control group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-53352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iving numbers mea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nges during experi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variabl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rols allow scientist to t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variabl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pendent variables depend on 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independent variabl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three types of grap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line, pie, and bar graph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ows change over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line grap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Uni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es more than one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bar graph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onents must equal 10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Circle or Pie Grap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played on grap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dat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LP ME!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65120" y="640080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371600" y="295596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heat a test tube over an open flame, one should hold the test tu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371600" y="295596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t an angle away from peo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2610000" y="640080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se units used in SI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Meter, Gram, and Li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ubic centimeter equals 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lrobinson</cp:lastModifiedBy>
  <dcterms:modified xsi:type="dcterms:W3CDTF">2008-06-17T17:11:14Z</dcterms:modified>
  <cp:revision>60</cp:revision>
  <dc:subject/>
  <dc:title>No Slide Title</dc:title>
</cp:coreProperties>
</file>